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9DB-223F-4EB9-8D8E-BA192DC3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BCF-85F1-48ED-8BCF-98D9673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812-5E4F-4CE5-8475-0BD86419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BB7-21D7-47BB-A6D2-9B27819C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5F9-A8DC-4FF7-AB39-6D4B1474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82B-0F8A-4716-B370-366DA6D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E21-4500-4B68-8730-8727FFF6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DDD-451D-4288-A00A-092AFB9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E70-9DB5-449C-A2C3-519E15A5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D0F-65AB-41F5-9449-77A7496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07C-431D-4B39-9D9D-634BE3C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3A7-C63A-422B-AC08-C6E410A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CB7-B698-4B3B-A1DE-C9F6E9B9E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36:01Z</dcterms:created>
  <dc:creator> </dc:creator>
  <dc:description/>
  <dc:language>en-US</dc:language>
  <cp:lastModifiedBy> </cp:lastModifiedBy>
  <dcterms:modified xsi:type="dcterms:W3CDTF">2008-11-11T13:36:07Z</dcterms:modified>
  <cp:revision>1</cp:revision>
  <dc:subject/>
  <dc:title>Slide 1</dc:title>
</cp:coreProperties>
</file>